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8ADF-A94E-4359-9420-BA91D6D4D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&amp; 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ic Ac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&amp; 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NA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DNA stores genetic information in segments called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Certain codons are translated by the cell into certain Ami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NA Wor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NA stores genetic information in segments called ge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Certain codons are translated by the cell into certain Ami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th type of macro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link between gen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rce of genetic information in chromos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4th type of macro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cal link between gen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rce of genetic information in chromos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y do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tate amino-acid sequence in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hey do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tate amino-acid sequence in 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made of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units called nucleotides, connected in long ch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 have 3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5-Carbon sugar (pent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Nitrogen containing ba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ade of C, H and 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A phosphate group ( P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made of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units called nucleotides, connected in long 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otides have 3 part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5-Carbon sugar (pento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Nitrogen containing ba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made of C, H and 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A phosphate group ( P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types of Nucleotides (depending on the sugar they con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nucleic acids (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Deoxyribonucleic acids (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Deoxyribose (has just an hydrogen in the same place--- H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oxy = “minus oxygen”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ypes of Nucleotides (depending on the sugar they conta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nucleic acids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Deoxyribonucleic acids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Deoxyribose (has just an hydrogen in the same place--- H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oxy = “minus oxygen”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3 parts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 (no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Thymine (Only in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3 parts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 (no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ymine (Only in 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 3 part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 (with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Uracyl (only in 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 3 parts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 (with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Uracyl (only in 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vs R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Thymine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Double-stranded helix arran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Uracyl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- Single str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vs R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Thymine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Double-stranded helix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Uracyl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- Single stran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al mod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oposed by Watson &amp; Crick,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---T     ,     C---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model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l proposed by Watson &amp; Crick, 195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---T     ,     C---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825-E165-4F0D-B3D4-83F2F126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522-E60E-46D3-A8D2-4867364A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DC1-2188-4A26-A5C4-1B2AD4CE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6BB-5C2B-4C6C-9340-2ECA3DCE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FCA5-A6C7-412B-9F14-E3B713CA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B4E9-F259-4BD4-B048-4C7CEE29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56BB-B426-4625-911B-07B54B35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A88F-13CE-44B0-9854-1719289E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0D96-B08C-4A0E-80B6-BFC7C2E9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0FEF-B2BF-450B-9B15-B0E3E9A3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722C-EAC9-466B-9252-F7EF5DD2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1B2-0BD0-4FF2-BDD9-3268CC50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13B4-1E05-41EB-BD49-D4F80033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0F12-BEE0-44E2-952A-E48061B4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6474-7CC0-4CE3-A972-6547934A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69AD-9C66-45F2-A19F-BBB7814C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0A22-4F25-4327-90DB-0C7A7BE4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029-F521-4472-ABE1-C17FF1AA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21B-A796-415A-895B-36FF199D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291-5C01-47C1-9981-9444B3F5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AEF-286E-4111-9242-0E652D9F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CC89-423B-4CEE-A318-387D8AB0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C4E-727E-4A32-9749-ECBCFFED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7BB-C308-4005-8485-4547B4D0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157E-4367-4CE1-9814-19E12AC67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FCE7-0623-49CA-9B40-95A2D380E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Comic Sans MS"/>
              </a:rPr>
              <a:t>Nucleic Acids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omic Sans MS"/>
              </a:rPr>
              <a:t>DNA &amp; RN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How DNA Work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DNA stores genetic information in segments called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gen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2- The DNA code is in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Comic Sans MS"/>
              </a:rPr>
              <a:t>Tri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Comic Sans MS"/>
              </a:rPr>
              <a:t>plet 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(short sequences of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nucleotides each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3- Certain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are translated by the cell into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ertain Ami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acid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4. Thus, the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nucleotide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DNA indicate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Amino acid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protein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are they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4</a:t>
            </a:r>
            <a:r>
              <a:rPr b="1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typ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acromolec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chemical link between gene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sourc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enetic information in chromos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do they do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ictat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mino-acid sequence in prote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ive information to chromosomes, which is then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ssed from parent to offsp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at are they made of 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imple units calle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onnected in long ch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ave 3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5-Carbon sugar (pento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Nitrogen containing 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made of C, H and 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A phosphate group ( P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 groups make the links that unite the sugars (hence a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ugar-phosphate backb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Two types of Nucleotides</a:t>
            </a: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(depending on the sugar they contain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nucleic acids (R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a hydroxyl group in the 3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carbon---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H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nucleic acids (D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just an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in the same place--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)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oxy = “minus oxygen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D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Composition (3 parts):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oxyr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no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Thymine (Only in 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R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omposition ( 3 parts)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with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Uracyl (only in R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0666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DNA </a:t>
            </a: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vs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RNA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oxyr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ymin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ub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stranded helix arran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Uracyl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Sing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tra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The Double Helix (DNA)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tructural model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4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Model proposed by Watson &amp; Crick, 1953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wo sugar-phosphate strands, next to each other, but running in opposite direction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Comic Sans MS"/>
              </a:rPr>
              <a:t>Specific Hydrogen bonds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occur among bases from one chain to the othe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</a:rPr>
              <a:t>A---T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    ,     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C---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Due to this specificity, a certain base on one strand indicates a certain base in the other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he 2 strands intertwine, forming a double-helix that winds around a central ax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0:59:06Z</dcterms:created>
  <dc:creator>Cheryl Massengale</dc:creator>
  <dc:description/>
  <dc:language>en-US</dc:language>
  <cp:lastModifiedBy>LEGION</cp:lastModifiedBy>
  <dcterms:modified xsi:type="dcterms:W3CDTF">2016-12-07T09:19:58Z</dcterms:modified>
  <cp:revision>29</cp:revision>
  <dc:subject/>
  <dc:title>Nucleic Acids What are they ?</dc:title>
</cp:coreProperties>
</file>